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3.jpeg" ContentType="image/jpeg"/>
  <Override PartName="/ppt/media/image24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4D7-5B1F-4B43-B519-5C914128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4F01-4D27-46BB-862C-41FCC45F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3C8-71A8-4277-B62A-7BDB49F6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B4A-05C7-41E3-A167-EA5B920F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4CA-95FD-4C63-9CC0-6E5D1586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5A7-D3EE-4F16-9424-00BC1D90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5F7-F01B-465F-91B5-CD18E0D4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42F-BB7F-4B05-9E38-6BB73D96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C6D-19A3-49B9-9BF1-8A6A330A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072-EE5D-4EAB-A56A-CF27120D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5872-0905-47CB-BA16-373A824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07E-11B8-4CDF-B577-1891CE6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0A3D-6D4B-4937-B4A9-78A0DEF5C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ABC Book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3399"/>
          </a:solidFill>
          <a:ln w="9360">
            <a:solidFill>
              <a:srgbClr val="bbe0e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242280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Is For In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Is Mon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pend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ave Money As Change,Credit Card,Or C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4267080"/>
            <a:ext cx="17938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0a2d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 Is For J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0a2d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il Is A Pun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hen They  Did Have J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42712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 Is For King J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 James Had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Kings Had All Types Of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Kings Could Pick The Presid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238880" y="3657600"/>
            <a:ext cx="14828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92b2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 Is For Langua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2b2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Tribes Spoke Different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 Little Motions Or Signs For Other People Could Understand What Were They Sa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182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9c42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Is For Mid-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9c42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Atlantic Is A Bay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825560" cy="132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7696080" y="38098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8098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7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Is For Native Americ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7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Americans Is I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 F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10280" y="4114800"/>
            <a:ext cx="18417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ab4d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Is For Opport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ab4d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is A Chance The Tribes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29400" y="3505320"/>
            <a:ext cx="1984320" cy="2554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08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7adf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Is For 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7ad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s A Crow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8004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f0fb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Is For Queen Elizab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f0fb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en Elizabeth Is A Queen Who Ra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162920" y="4038480"/>
            <a:ext cx="14968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24b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 Is For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c24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Meant To The Tribes Was Chatting And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4672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Is For Artis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rtisan is a craftsman that works in small towns and villag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7733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solidFill>
            <a:srgbClr val="082ad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Is For Sl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solidFill>
            <a:srgbClr val="082a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In The Days There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Had No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Had To Work For The Owners And Other Peo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91320" y="4708440"/>
            <a:ext cx="279864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33520" y="4500720"/>
            <a:ext cx="35319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5e3e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Is For Ta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5e3e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Were Like Is Like A Che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es Is A Lot Of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36576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Is For B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y Is A Bank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3657600" cy="241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438280" y="4724280"/>
          <a:ext cx="30492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7242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b3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Is For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b3b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s Is Food Being Grown In The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s Is Also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3810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6eef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 Is For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6eef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isease Is A Kind Of Sick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n Also Die From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3051000" cy="229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648320" y="4419720"/>
          <a:ext cx="30456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4419720"/>
                    <a:ext cx="3045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Is Fo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0f5a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ducation Is Something You Get From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629400" y="449568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8f6a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Is For F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8f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rmer Is A Person Who Grow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Is For Gra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 Is A Crop That Is In Food Such As B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701880" cy="3452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300996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Is For Hom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is a place where you 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s give you 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943600" y="3886200"/>
            <a:ext cx="27082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35:00Z</dcterms:created>
  <dc:creator>shequisha.jones</dc:creator>
  <dc:description/>
  <dc:language>en-US</dc:language>
  <cp:lastModifiedBy>shequisha.jones</cp:lastModifiedBy>
  <dcterms:modified xsi:type="dcterms:W3CDTF">2008-03-25T17:19:01Z</dcterms:modified>
  <cp:revision>7</cp:revision>
  <dc:subject/>
  <dc:title>ABC Booklet</dc:title>
</cp:coreProperties>
</file>